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891200" cy="3291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50A4-4E63-420A-B756-6BA80B74D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95640" y="1317600"/>
            <a:ext cx="39499920" cy="54864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ctr">
            <a:noAutofit/>
          </a:bodyPr>
          <a:p>
            <a:pPr indent="0" algn="ctr">
              <a:buNone/>
              <a:tabLst>
                <a:tab algn="l" pos="0"/>
                <a:tab algn="l" pos="4070520"/>
                <a:tab algn="l" pos="8140680"/>
              </a:tabLst>
            </a:pPr>
            <a:endParaRPr b="0" lang="en-US" sz="1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95640" y="7679880"/>
            <a:ext cx="39499920" cy="103626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95640" y="19027440"/>
            <a:ext cx="39499920" cy="103626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CA30-4A63-4987-920F-CEB584AF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95640" y="1317600"/>
            <a:ext cx="39499920" cy="54864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ctr">
            <a:noAutofit/>
          </a:bodyPr>
          <a:p>
            <a:pPr indent="0" algn="ctr">
              <a:buNone/>
              <a:tabLst>
                <a:tab algn="l" pos="0"/>
                <a:tab algn="l" pos="4070520"/>
                <a:tab algn="l" pos="8140680"/>
              </a:tabLst>
            </a:pPr>
            <a:endParaRPr b="0" lang="en-US" sz="1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5640" y="7679880"/>
            <a:ext cx="19275840" cy="103626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435560" y="7679880"/>
            <a:ext cx="19275840" cy="103626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95640" y="19027440"/>
            <a:ext cx="19275840" cy="103626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435560" y="19027440"/>
            <a:ext cx="19275840" cy="103626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5DCC-59F3-4E9B-A83B-EFBDDC7ED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95640" y="1317600"/>
            <a:ext cx="39499920" cy="54864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ctr">
            <a:noAutofit/>
          </a:bodyPr>
          <a:p>
            <a:pPr indent="0" algn="ctr">
              <a:buNone/>
              <a:tabLst>
                <a:tab algn="l" pos="0"/>
                <a:tab algn="l" pos="4070520"/>
                <a:tab algn="l" pos="8140680"/>
              </a:tabLst>
            </a:pPr>
            <a:endParaRPr b="0" lang="en-US" sz="1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95640" y="7679880"/>
            <a:ext cx="12718800" cy="103626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550920" y="7679880"/>
            <a:ext cx="12718800" cy="103626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905840" y="7679880"/>
            <a:ext cx="12718800" cy="103626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95640" y="19027440"/>
            <a:ext cx="12718800" cy="103626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550920" y="19027440"/>
            <a:ext cx="12718800" cy="103626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905840" y="19027440"/>
            <a:ext cx="12718800" cy="103626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30A3-8937-4DA4-8DC5-E9A45E130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5640" y="1317600"/>
            <a:ext cx="39499920" cy="54864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ctr">
            <a:noAutofit/>
          </a:bodyPr>
          <a:p>
            <a:pPr indent="0" algn="ctr">
              <a:buNone/>
              <a:tabLst>
                <a:tab algn="l" pos="0"/>
                <a:tab algn="l" pos="4070520"/>
                <a:tab algn="l" pos="8140680"/>
              </a:tabLst>
            </a:pPr>
            <a:endParaRPr b="0" lang="en-US" sz="1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95640" y="7679880"/>
            <a:ext cx="39499920" cy="2172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CCF9-A5FF-4224-9BE8-4E05B79F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5640" y="1317600"/>
            <a:ext cx="39499920" cy="54864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ctr">
            <a:noAutofit/>
          </a:bodyPr>
          <a:p>
            <a:pPr indent="0" algn="ctr">
              <a:buNone/>
              <a:tabLst>
                <a:tab algn="l" pos="0"/>
                <a:tab algn="l" pos="4070520"/>
                <a:tab algn="l" pos="8140680"/>
              </a:tabLst>
            </a:pPr>
            <a:endParaRPr b="0" lang="en-US" sz="1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5640" y="7679880"/>
            <a:ext cx="39499920" cy="2172492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AE90-31ED-4951-8256-74EB762F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95640" y="1317600"/>
            <a:ext cx="39499920" cy="54864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ctr">
            <a:noAutofit/>
          </a:bodyPr>
          <a:p>
            <a:pPr indent="0" algn="ctr">
              <a:buNone/>
              <a:tabLst>
                <a:tab algn="l" pos="0"/>
                <a:tab algn="l" pos="4070520"/>
                <a:tab algn="l" pos="8140680"/>
              </a:tabLst>
            </a:pPr>
            <a:endParaRPr b="0" lang="en-US" sz="1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95640" y="7679880"/>
            <a:ext cx="19275840" cy="2172492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435560" y="7679880"/>
            <a:ext cx="19275840" cy="2172492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A8DA-681A-4D72-BEA8-D59468E2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5640" y="1317600"/>
            <a:ext cx="39499920" cy="54864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ctr">
            <a:noAutofit/>
          </a:bodyPr>
          <a:p>
            <a:pPr indent="0" algn="ctr">
              <a:buNone/>
              <a:tabLst>
                <a:tab algn="l" pos="0"/>
                <a:tab algn="l" pos="4070520"/>
                <a:tab algn="l" pos="8140680"/>
              </a:tabLst>
            </a:pPr>
            <a:endParaRPr b="0" lang="en-US" sz="1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BEE0-1489-4F75-9129-08136878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95640" y="1317600"/>
            <a:ext cx="3949992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E199-8F71-4438-A7C3-647D7A8A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95640" y="1317600"/>
            <a:ext cx="39499920" cy="54864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ctr">
            <a:noAutofit/>
          </a:bodyPr>
          <a:p>
            <a:pPr indent="0" algn="ctr">
              <a:buNone/>
              <a:tabLst>
                <a:tab algn="l" pos="0"/>
                <a:tab algn="l" pos="4070520"/>
                <a:tab algn="l" pos="8140680"/>
              </a:tabLst>
            </a:pPr>
            <a:endParaRPr b="0" lang="en-US" sz="1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95640" y="7679880"/>
            <a:ext cx="19275840" cy="103626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435560" y="7679880"/>
            <a:ext cx="19275840" cy="2172492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95640" y="19027440"/>
            <a:ext cx="19275840" cy="103626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4D74-83C3-4FB7-814B-ED0063E1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95640" y="1317600"/>
            <a:ext cx="39499920" cy="54864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ctr">
            <a:noAutofit/>
          </a:bodyPr>
          <a:p>
            <a:pPr indent="0" algn="ctr">
              <a:buNone/>
              <a:tabLst>
                <a:tab algn="l" pos="0"/>
                <a:tab algn="l" pos="4070520"/>
                <a:tab algn="l" pos="8140680"/>
              </a:tabLst>
            </a:pPr>
            <a:endParaRPr b="0" lang="en-US" sz="1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95640" y="7679880"/>
            <a:ext cx="19275840" cy="2172492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435560" y="7679880"/>
            <a:ext cx="19275840" cy="103626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435560" y="19027440"/>
            <a:ext cx="19275840" cy="103626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2DA1-06F1-48B7-9494-75B8A54E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95640" y="1317600"/>
            <a:ext cx="39499920" cy="54864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ctr">
            <a:noAutofit/>
          </a:bodyPr>
          <a:p>
            <a:pPr indent="0" algn="ctr">
              <a:buNone/>
              <a:tabLst>
                <a:tab algn="l" pos="0"/>
                <a:tab algn="l" pos="4070520"/>
                <a:tab algn="l" pos="8140680"/>
              </a:tabLst>
            </a:pPr>
            <a:endParaRPr b="0" lang="en-US" sz="1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95640" y="7679880"/>
            <a:ext cx="19275840" cy="103626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435560" y="7679880"/>
            <a:ext cx="19275840" cy="103626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95640" y="19027440"/>
            <a:ext cx="39499920" cy="103626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0520"/>
                <a:tab algn="l" pos="8140680"/>
              </a:tabLst>
            </a:pP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51CF-C372-4FFF-9523-4B8CAD9C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5959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5640" y="1317600"/>
            <a:ext cx="39499920" cy="548640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ctr">
            <a:noAutofit/>
          </a:bodyPr>
          <a:p>
            <a:pPr indent="0" algn="ctr">
              <a:buNone/>
              <a:tabLst>
                <a:tab algn="l" pos="0"/>
                <a:tab algn="l" pos="4070520"/>
                <a:tab algn="l" pos="8140680"/>
              </a:tabLst>
            </a:pPr>
            <a:r>
              <a:rPr b="0" lang="en-US" sz="19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5640" y="7679880"/>
            <a:ext cx="39499920" cy="2172492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t">
            <a:normAutofit/>
          </a:bodyPr>
          <a:p>
            <a:pPr marL="1525680" indent="-1525680">
              <a:spcBef>
                <a:spcPts val="3574"/>
              </a:spcBef>
              <a:buClr>
                <a:srgbClr val="000000"/>
              </a:buClr>
              <a:buFont typeface="Arial"/>
              <a:buChar char="•"/>
              <a:tabLst>
                <a:tab algn="l" pos="4070520"/>
                <a:tab algn="l" pos="814068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  <a:p>
            <a:pPr lvl="1" marL="3306600" indent="-1271520">
              <a:spcBef>
                <a:spcPts val="3574"/>
              </a:spcBef>
              <a:buClr>
                <a:srgbClr val="000000"/>
              </a:buClr>
              <a:buFont typeface="Arial"/>
              <a:buChar char="–"/>
              <a:tabLst>
                <a:tab algn="l" pos="4070520"/>
                <a:tab algn="l" pos="814068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  <a:p>
            <a:pPr lvl="2" marL="5087880" indent="-1017360">
              <a:spcBef>
                <a:spcPts val="3574"/>
              </a:spcBef>
              <a:buClr>
                <a:srgbClr val="000000"/>
              </a:buClr>
              <a:buFont typeface="Arial"/>
              <a:buChar char="•"/>
              <a:tabLst>
                <a:tab algn="l" pos="4070520"/>
                <a:tab algn="l" pos="814068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  <a:p>
            <a:pPr lvl="3" marL="7122960" indent="-1017360">
              <a:spcBef>
                <a:spcPts val="3574"/>
              </a:spcBef>
              <a:buClr>
                <a:srgbClr val="000000"/>
              </a:buClr>
              <a:buFont typeface="Arial"/>
              <a:buChar char="–"/>
              <a:tabLst>
                <a:tab algn="l" pos="4070520"/>
                <a:tab algn="l" pos="814068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  <a:p>
            <a:pPr lvl="4" marL="9159840" indent="-1017720">
              <a:spcBef>
                <a:spcPts val="3574"/>
              </a:spcBef>
              <a:buClr>
                <a:srgbClr val="000000"/>
              </a:buClr>
              <a:buFont typeface="Arial"/>
              <a:buChar char="»"/>
              <a:tabLst>
                <a:tab algn="l" pos="4070520"/>
                <a:tab algn="l" pos="814068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  <a:p>
            <a:pPr lvl="5" marL="9159840" indent="-1017720">
              <a:spcBef>
                <a:spcPts val="3574"/>
              </a:spcBef>
              <a:buClr>
                <a:srgbClr val="000000"/>
              </a:buClr>
              <a:buFont typeface="Arial"/>
              <a:buChar char="»"/>
              <a:tabLst>
                <a:tab algn="l" pos="4070520"/>
                <a:tab algn="l" pos="814068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  <a:p>
            <a:pPr lvl="6" marL="9159840" indent="-1017720">
              <a:spcBef>
                <a:spcPts val="3574"/>
              </a:spcBef>
              <a:buClr>
                <a:srgbClr val="000000"/>
              </a:buClr>
              <a:buFont typeface="Arial"/>
              <a:buChar char="»"/>
              <a:tabLst>
                <a:tab algn="l" pos="4070520"/>
                <a:tab algn="l" pos="814068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95640" y="30509640"/>
            <a:ext cx="10239120" cy="175284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997240" y="30509640"/>
            <a:ext cx="13896720" cy="175284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456440" y="30509640"/>
            <a:ext cx="10239120" cy="1752840"/>
          </a:xfrm>
          <a:prstGeom prst="rect">
            <a:avLst/>
          </a:prstGeom>
          <a:noFill/>
          <a:ln w="0">
            <a:noFill/>
          </a:ln>
        </p:spPr>
        <p:txBody>
          <a:bodyPr lIns="407160" rIns="407160" tIns="203400" bIns="203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5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CE25-2923-421D-BF75-CA007BE3F4CD}" type="slidenum">
              <a:rPr b="0" lang="en-US" sz="5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64"/>
          <p:cNvSpPr/>
          <p:nvPr/>
        </p:nvSpPr>
        <p:spPr>
          <a:xfrm>
            <a:off x="2263680" y="26746200"/>
            <a:ext cx="5573880" cy="2438280"/>
          </a:xfrm>
          <a:prstGeom prst="ellipse">
            <a:avLst/>
          </a:prstGeom>
          <a:solidFill>
            <a:srgbClr val="1faecd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63"/>
          <p:cNvSpPr/>
          <p:nvPr/>
        </p:nvSpPr>
        <p:spPr>
          <a:xfrm>
            <a:off x="2263680" y="17907120"/>
            <a:ext cx="5573880" cy="2438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62"/>
          <p:cNvSpPr/>
          <p:nvPr/>
        </p:nvSpPr>
        <p:spPr>
          <a:xfrm>
            <a:off x="2263680" y="8229600"/>
            <a:ext cx="5573880" cy="2438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Text Box 176" descr=""/>
          <p:cNvPicPr/>
          <p:nvPr/>
        </p:nvPicPr>
        <p:blipFill>
          <a:blip r:embed="rId1"/>
          <a:stretch/>
        </p:blipFill>
        <p:spPr>
          <a:xfrm>
            <a:off x="10180800" y="0"/>
            <a:ext cx="23877360" cy="320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1481040" y="4008600"/>
          <a:ext cx="40581360" cy="26471520"/>
        </p:xfrm>
        <a:graphic>
          <a:graphicData uri="http://schemas.openxmlformats.org/drawingml/2006/table">
            <a:tbl>
              <a:tblPr/>
              <a:tblGrid>
                <a:gridCol w="7266240"/>
                <a:gridCol w="10859760"/>
                <a:gridCol w="11869920"/>
                <a:gridCol w="10585440"/>
              </a:tblGrid>
              <a:tr h="1981080">
                <a:tc>
                  <a:txBody>
                    <a:bodyPr lIns="465840" rIns="465840" tIns="203760" bIns="20376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5840" marR="46584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465840" rIns="465840" tIns="203760" bIns="20376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Clinicians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5840" marR="46584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465840" rIns="465840" tIns="203760" bIns="20376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Children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5840" marR="46584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465840" rIns="465840" tIns="203760" bIns="20376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arents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5840" marR="46584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6789600">
                <a:tc>
                  <a:txBody>
                    <a:bodyPr lIns="465840" rIns="465840" tIns="203760" bIns="20376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ROBLEM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5840" marR="46584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465840" rIns="465840" tIns="203760" bIns="20376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Clinicians do not have an effective tool to share information from the medical record. Therefore, the patient and family aren’t fully involved in the care process.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5840" marR="46584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465840" rIns="465840" tIns="203760" bIns="20376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Children need to receive medical information through a memorable experience to facilitate learning. 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There is also a need for positive distractions for children during hospital experiences.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5840" marR="46584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465840" rIns="465840" tIns="203760" bIns="20376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In stressful situations, it is difficult for parents to absorb information from the clinician.  There is a need to receive this information electronically for reference at home.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5840" marR="46584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12566880">
                <a:tc>
                  <a:txBody>
                    <a:bodyPr lIns="465840" rIns="465840" tIns="203760" bIns="20376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SOLUTION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5840" marR="46584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465840" rIns="465840" tIns="203760" bIns="20376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075200"/>
                          <a:tab algn="l" pos="8150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</a:t>
                      </a: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X-Rays, labs, meds, pulled    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 </a:t>
                      </a: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from the EMR onto table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075200"/>
                          <a:tab algn="l" pos="8150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</a:t>
                      </a: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Interactive display 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 </a:t>
                      </a: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enables communication 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 </a:t>
                      </a: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for shared decision making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5840" marR="46584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465840" rIns="465840" tIns="203760" bIns="203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075200"/>
                          <a:tab algn="l" pos="8150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</a:t>
                      </a: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Interactive games for learning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075200"/>
                          <a:tab algn="l" pos="8150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</a:t>
                      </a: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Coloring tool for positive 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 </a:t>
                      </a: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distraction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075200"/>
                          <a:tab algn="l" pos="8150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</a:t>
                      </a: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Step-by-step directions for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 </a:t>
                      </a: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medication use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5840" marR="46584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465840" rIns="465840" tIns="203760" bIns="20376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075200"/>
                          <a:tab algn="l" pos="8150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</a:t>
                      </a: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Information about medical 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 </a:t>
                      </a: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conditions and medications  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 </a:t>
                      </a: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specific to your child 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 </a:t>
                      </a: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transferred to your PDA or 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 </a:t>
                      </a: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rinted for home use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5840" marR="46584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33960">
                <a:tc>
                  <a:txBody>
                    <a:bodyPr lIns="465840" rIns="465840" tIns="203760" bIns="20376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EVIDENCE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5840" marR="46584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465840" rIns="465840" tIns="203760" bIns="203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Information sharing is an important part of patient and family centered care.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5840" marR="46584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465840" rIns="465840" tIns="203760" bIns="203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Auditory, visual, and kinesthetic learning is necessary for children to recall what they are taught.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5840" marR="46584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465840" rIns="465840" tIns="203760" bIns="20376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4075200"/>
                          <a:tab algn="l" pos="8150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Studies have shown that people understand medical instructions when they are given, but cannot always recall them later.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5840" marR="46584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Picture 319" descr="logo-gatech"/>
          <p:cNvPicPr/>
          <p:nvPr/>
        </p:nvPicPr>
        <p:blipFill>
          <a:blip r:embed="rId2">
            <a:grayscl/>
          </a:blip>
          <a:stretch/>
        </p:blipFill>
        <p:spPr>
          <a:xfrm>
            <a:off x="37098360" y="380880"/>
            <a:ext cx="6248160" cy="26672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88"/>
          <p:cNvSpPr/>
          <p:nvPr/>
        </p:nvSpPr>
        <p:spPr>
          <a:xfrm>
            <a:off x="87480" y="609480"/>
            <a:ext cx="74023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07520" rIns="407520" tIns="203760" bIns="2037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75200"/>
                <a:tab algn="l" pos="81504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Verdana"/>
                <a:ea typeface="Verdana"/>
              </a:rPr>
              <a:t>Pediatric Health Center of the Futur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75200"/>
                <a:tab algn="l" pos="81504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Verdana"/>
                <a:ea typeface="Verdana"/>
              </a:rPr>
              <a:t>Fall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3"/>
          <a:stretch/>
        </p:blipFill>
        <p:spPr>
          <a:xfrm>
            <a:off x="32308920" y="14401800"/>
            <a:ext cx="7869240" cy="5354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9" name="Picture 2" descr=""/>
          <p:cNvPicPr/>
          <p:nvPr/>
        </p:nvPicPr>
        <p:blipFill>
          <a:blip r:embed="rId4"/>
          <a:stretch/>
        </p:blipFill>
        <p:spPr>
          <a:xfrm>
            <a:off x="20988360" y="14478120"/>
            <a:ext cx="8059680" cy="5222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0" name="Picture 4" descr=""/>
          <p:cNvPicPr/>
          <p:nvPr/>
        </p:nvPicPr>
        <p:blipFill>
          <a:blip r:embed="rId5"/>
          <a:stretch/>
        </p:blipFill>
        <p:spPr>
          <a:xfrm>
            <a:off x="9809280" y="14478120"/>
            <a:ext cx="7869240" cy="53020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88"/>
          <p:cNvSpPr/>
          <p:nvPr/>
        </p:nvSpPr>
        <p:spPr>
          <a:xfrm>
            <a:off x="1566720" y="31699080"/>
            <a:ext cx="40757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07520" rIns="407520" tIns="203760" bIns="2037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75200"/>
                <a:tab algn="l" pos="8150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Verdana"/>
                <a:ea typeface="Verdana"/>
              </a:rPr>
              <a:t>Fahad Al-Emam </a:t>
            </a:r>
            <a:r>
              <a:rPr b="0" lang="en-US" sz="3600" spc="-1" strike="noStrike">
                <a:solidFill>
                  <a:srgbClr val="00b0f0"/>
                </a:solidFill>
                <a:latin typeface="Verdana"/>
                <a:ea typeface="Verdana"/>
              </a:rPr>
              <a:t>	</a:t>
            </a:r>
            <a:r>
              <a:rPr b="0" lang="en-US" sz="3600" spc="-1" strike="noStrike">
                <a:solidFill>
                  <a:srgbClr val="00b0f0"/>
                </a:solidFill>
                <a:latin typeface="Verdana"/>
                <a:ea typeface="Verdana"/>
              </a:rPr>
              <a:t>	</a:t>
            </a:r>
            <a:r>
              <a:rPr b="0" lang="en-US" sz="3600" spc="-1" strike="noStrike">
                <a:solidFill>
                  <a:srgbClr val="00b0f0"/>
                </a:solidFill>
                <a:latin typeface="Verdana"/>
                <a:ea typeface="Verdana"/>
              </a:rPr>
              <a:t>   Jamie Beyer </a:t>
            </a:r>
            <a:r>
              <a:rPr b="0" lang="en-US" sz="3600" spc="-1" strike="noStrike">
                <a:solidFill>
                  <a:srgbClr val="00b0f0"/>
                </a:solidFill>
                <a:latin typeface="Verdana"/>
                <a:ea typeface="Verdana"/>
              </a:rPr>
              <a:t>	</a:t>
            </a:r>
            <a:r>
              <a:rPr b="0" lang="en-US" sz="3600" spc="-1" strike="noStrike">
                <a:solidFill>
                  <a:srgbClr val="00b0f0"/>
                </a:solidFill>
                <a:latin typeface="Verdana"/>
                <a:ea typeface="Verdana"/>
              </a:rPr>
              <a:t> </a:t>
            </a:r>
            <a:r>
              <a:rPr b="0" lang="en-US" sz="3600" spc="-1" strike="noStrike">
                <a:solidFill>
                  <a:srgbClr val="00b0f0"/>
                </a:solidFill>
                <a:latin typeface="Verdana"/>
                <a:ea typeface="Verdana"/>
              </a:rPr>
              <a:t>	</a:t>
            </a:r>
            <a:r>
              <a:rPr b="0" lang="en-US" sz="3600" spc="-1" strike="noStrike">
                <a:solidFill>
                  <a:srgbClr val="00b0f0"/>
                </a:solidFill>
                <a:latin typeface="Verdana"/>
                <a:ea typeface="Verdana"/>
              </a:rPr>
              <a:t>   Randeep Ramamurthy </a:t>
            </a:r>
            <a:r>
              <a:rPr b="0" lang="en-US" sz="3600" spc="-1" strike="noStrike">
                <a:solidFill>
                  <a:srgbClr val="00b0f0"/>
                </a:solidFill>
                <a:latin typeface="Verdana"/>
                <a:ea typeface="Verdana"/>
              </a:rPr>
              <a:t>	</a:t>
            </a:r>
            <a:r>
              <a:rPr b="0" lang="en-US" sz="3600" spc="-1" strike="noStrike">
                <a:solidFill>
                  <a:srgbClr val="00b0f0"/>
                </a:solidFill>
                <a:latin typeface="Verdana"/>
                <a:ea typeface="Verdana"/>
              </a:rPr>
              <a:t>	</a:t>
            </a:r>
            <a:r>
              <a:rPr b="0" lang="en-US" sz="3600" spc="-1" strike="noStrike">
                <a:solidFill>
                  <a:srgbClr val="00b0f0"/>
                </a:solidFill>
                <a:latin typeface="Verdana"/>
                <a:ea typeface="Verdana"/>
              </a:rPr>
              <a:t>Michelle Williams-Dav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mie</dc:creator>
  <dc:description/>
  <dc:language>en-US</dc:language>
  <cp:lastModifiedBy>Jamie</cp:lastModifiedBy>
  <dcterms:modified xsi:type="dcterms:W3CDTF">2007-12-03T01:24:01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